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1.xml.rels" ContentType="application/vnd.openxmlformats-package.relationships+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2AA4A-1000-492C-9FDF-532C08561C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this figure it can be seen that both positive and negative cost options exists for Bangladesh. While options like T&amp;D and CCGT are very expensive options, there are options like Modal Shift from Road to Water Transport and Solar Lanterns which are very attractive from a financial point of view. It is worth pointing out that mitigation options may have negative costs i.e., their use actually saves money, but because of barriers those are not likely to be implemented without deliberate intervention. </a:t>
            </a:r>
            <a:endParaRPr b="0" lang="en-US" sz="1200" spc="-1" strike="noStrike">
              <a:solidFill>
                <a:srgbClr val="000000"/>
              </a:solidFill>
              <a:latin typeface="Calibri"/>
            </a:endParaRPr>
          </a:p>
        </p:txBody>
      </p:sp>
      <p:sp>
        <p:nvSpPr>
          <p:cNvPr id="1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8469B-0440-47B7-9919-AA59AC6056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ing 2005 as the base year, a GHG emission projection up to 2030 has been prepared. If the 21 GHG mitigation options are implemented between 2010 and 2030, emissions will be less than the baselin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AAC41-17D5-4458-8318-24C6614C90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6DABD-6714-4352-A2E5-7D80E8F4B0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itigation options have been chosen after a evaluation of the following criteria (i) Government priority (ii) Potential of reduction (iii) Cost effectiveness (iv) Suitability of the technology to local conditions (v) Ease of implementation, and (vi) Data availability. These a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56019-40AC-4AFF-B64E-E2BE459B24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CDA1B-BF38-40BE-8381-1EBB6A296B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4C4EA-B11E-48EB-975E-F228FEC954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6C56E7-B062-47BB-97D0-60CB9530FF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FBDFB1-6CA6-411A-AF68-BF802B07E6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9E1640-9A42-4C27-B80E-D48532F401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460C3F-4B85-43C4-95D6-77E821E921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AE43AF48-05C4-43F7-B69E-DFEC4C982E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86A37B28-3F8B-4B7A-8D42-A280000517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4F2D534B-D756-4290-BBC1-87C7CA1AF1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1E93EE61-2A03-423A-9EAA-856DF1F962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E3E8AD8A-7440-4EEB-9D23-B9A42A323B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C69B07CD-8D9A-4966-BD0E-BC1C411656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48767F4-2BC2-47CB-ADAF-DC60801FB0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079FF3-6D1E-4065-B741-33389F83E8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81E2E35-456B-4496-81D9-86732F584C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51DC196-8C3C-4C62-AAB7-0F406A2176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3D5CFE9A-14D2-490E-B403-8A30718521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72775C1F-28DC-4683-948D-AEEECD1B0D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D7ECA08F-5595-4067-9D26-60E5CE700E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3F1E53-5736-4004-867C-FAF483AB34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53BAD3-DB1D-4E47-844B-070703AFF7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A561A6-57AE-4A9F-A3B4-FA68AE8F08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17C0FB-B182-4187-96EE-B016FC3C7D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92BAD7-2B09-48EE-B431-719BF38021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DDB2FC-EB23-4D1D-B334-E09657E429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A0B49D-B18F-4DF1-BC74-FAEF5A12BF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ef4e2"/>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A4E9C-58FE-4CA8-97FC-454E45F8105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ef4e2"/>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5104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sldNum" idx="5"/>
          </p:nvPr>
        </p:nvSpPr>
        <p:spPr>
          <a:xfrm>
            <a:off x="6552720" y="624816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A396F-C0B8-4ACA-9700-771EB54C34B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5" name="PlaceHolder 5"/>
          <p:cNvSpPr>
            <a:spLocks noGrp="1"/>
          </p:cNvSpPr>
          <p:nvPr>
            <p:ph type="ftr" idx="6"/>
          </p:nvPr>
        </p:nvSpPr>
        <p:spPr>
          <a:xfrm>
            <a:off x="3124080" y="624816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838080"/>
            <a:ext cx="8001000" cy="1905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br>
              <a:rPr sz="2900"/>
            </a:br>
            <a:r>
              <a:rPr b="1" lang="en-US" sz="4400" spc="-1" strike="noStrike">
                <a:solidFill>
                  <a:srgbClr val="c00000"/>
                </a:solidFill>
                <a:latin typeface="Arial"/>
              </a:rPr>
              <a:t>Bangladesh’s Approach Towards Mitigation</a:t>
            </a:r>
            <a:br>
              <a:rPr sz="4000"/>
            </a:br>
            <a:endParaRPr b="0" lang="en-US" sz="4400" spc="-1" strike="noStrike">
              <a:solidFill>
                <a:srgbClr val="000000"/>
              </a:solidFill>
              <a:latin typeface="Arial"/>
            </a:endParaRPr>
          </a:p>
        </p:txBody>
      </p:sp>
      <p:sp>
        <p:nvSpPr>
          <p:cNvPr id="90" name="PlaceHolder 2"/>
          <p:cNvSpPr>
            <a:spLocks noGrp="1"/>
          </p:cNvSpPr>
          <p:nvPr>
            <p:ph type="subTitle"/>
          </p:nvPr>
        </p:nvSpPr>
        <p:spPr>
          <a:xfrm>
            <a:off x="1371240" y="2971800"/>
            <a:ext cx="6553080" cy="3200400"/>
          </a:xfrm>
          <a:prstGeom prst="rect">
            <a:avLst/>
          </a:prstGeom>
          <a:noFill/>
          <a:ln w="0">
            <a:noFill/>
          </a:ln>
        </p:spPr>
        <p:txBody>
          <a:bodyPr anchor="t">
            <a:noAutofit/>
          </a:bodyPr>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0a0"/>
                </a:solidFill>
                <a:latin typeface="Arial"/>
              </a:rPr>
              <a:t>Md Ziaul Haque</a:t>
            </a:r>
            <a:endParaRPr b="0" lang="en-US" sz="2000" spc="-1" strike="noStrike">
              <a:solidFill>
                <a:srgbClr val="000000"/>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0a0"/>
                </a:solidFill>
                <a:latin typeface="Arial"/>
              </a:rPr>
              <a:t>Deputy Director </a:t>
            </a:r>
            <a:endParaRPr b="0" lang="en-US" sz="20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0a0"/>
                </a:solidFill>
                <a:latin typeface="Arial"/>
              </a:rPr>
              <a:t>Department of Environment</a:t>
            </a:r>
            <a:endParaRPr b="0" lang="en-US" sz="20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0a0"/>
                </a:solidFill>
                <a:latin typeface="Arial"/>
              </a:rPr>
              <a:t>Ministry of Environment and Forests </a:t>
            </a:r>
            <a:endParaRPr b="0" lang="en-US" sz="2000" spc="-1" strike="noStrike">
              <a:solidFill>
                <a:srgbClr val="000000"/>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304920"/>
            <a:ext cx="8229600" cy="38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ost Effectiveness of Identified Mitigation Options </a:t>
            </a:r>
            <a:br>
              <a:rPr sz="2400"/>
            </a:br>
            <a:endParaRPr b="0" lang="en-US" sz="2400" spc="-1" strike="noStrike">
              <a:solidFill>
                <a:srgbClr val="000000"/>
              </a:solidFill>
              <a:latin typeface="Arial"/>
            </a:endParaRPr>
          </a:p>
        </p:txBody>
      </p:sp>
      <p:pic>
        <p:nvPicPr>
          <p:cNvPr id="109" name="Content Placeholder 3" descr=""/>
          <p:cNvPicPr/>
          <p:nvPr/>
        </p:nvPicPr>
        <p:blipFill>
          <a:blip r:embed="rId1"/>
          <a:stretch/>
        </p:blipFill>
        <p:spPr>
          <a:xfrm>
            <a:off x="-6480" y="603360"/>
            <a:ext cx="9156960" cy="6261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304560"/>
            <a:ext cx="861048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2400" spc="-1" strike="noStrike">
                <a:solidFill>
                  <a:srgbClr val="7030a0"/>
                </a:solidFill>
                <a:latin typeface="Arial"/>
                <a:ea typeface="Times New Roman"/>
              </a:rPr>
              <a:t>GHG Emissions under Baseline and the Mitigation Scenarios</a:t>
            </a:r>
            <a:br>
              <a:rPr sz="2800"/>
            </a:br>
            <a:endParaRPr b="0" lang="en-US" sz="2400" spc="-1" strike="noStrike">
              <a:solidFill>
                <a:srgbClr val="000000"/>
              </a:solidFill>
              <a:latin typeface="Arial"/>
            </a:endParaRPr>
          </a:p>
        </p:txBody>
      </p:sp>
      <p:pic>
        <p:nvPicPr>
          <p:cNvPr id="111" name="Chart 1" descr=""/>
          <p:cNvPicPr/>
          <p:nvPr/>
        </p:nvPicPr>
        <p:blipFill>
          <a:blip r:embed="rId1"/>
          <a:srcRect l="-1523" t="-2144" r="-5591" b="-1664"/>
          <a:stretch/>
        </p:blipFill>
        <p:spPr>
          <a:xfrm>
            <a:off x="0" y="1066680"/>
            <a:ext cx="9144000" cy="5639040"/>
          </a:xfrm>
          <a:prstGeom prst="rect">
            <a:avLst/>
          </a:prstGeom>
          <a:ln w="12600">
            <a:solidFill>
              <a:srgbClr val="365f91"/>
            </a:solidFill>
            <a:miter/>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Chart 3" descr=""/>
          <p:cNvPicPr/>
          <p:nvPr/>
        </p:nvPicPr>
        <p:blipFill>
          <a:blip r:embed="rId1"/>
          <a:srcRect l="-3560" t="-1499" r="-3434" b="-2399"/>
          <a:stretch/>
        </p:blipFill>
        <p:spPr>
          <a:xfrm>
            <a:off x="457200" y="228600"/>
            <a:ext cx="6400800" cy="6318360"/>
          </a:xfrm>
          <a:prstGeom prst="rect">
            <a:avLst/>
          </a:prstGeom>
          <a:ln w="0">
            <a:noFill/>
          </a:ln>
        </p:spPr>
      </p:pic>
      <p:sp>
        <p:nvSpPr>
          <p:cNvPr id="113" name="TextBox 3"/>
          <p:cNvSpPr/>
          <p:nvPr/>
        </p:nvSpPr>
        <p:spPr>
          <a:xfrm>
            <a:off x="6629400" y="1676520"/>
            <a:ext cx="20574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0a0"/>
                </a:solidFill>
                <a:latin typeface="Tahoma"/>
                <a:ea typeface="Tahoma"/>
              </a:rPr>
              <a:t>Investment Requirement for Mitigation Option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1680"/>
            <a:ext cx="82296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a typeface="Times New Roman"/>
            </a:endParaRPr>
          </a:p>
        </p:txBody>
      </p:sp>
      <p:sp>
        <p:nvSpPr>
          <p:cNvPr id="115" name=""/>
          <p:cNvSpPr txBox="1"/>
          <p:nvPr/>
        </p:nvSpPr>
        <p:spPr>
          <a:xfrm>
            <a:off x="228240" y="304560"/>
            <a:ext cx="8458200" cy="60958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a:ea typeface="Times New Roman"/>
              </a:rPr>
              <a:t>Current Mitigation Activities:</a:t>
            </a:r>
            <a:endParaRPr b="0" lang="en-US" sz="2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round 4 (four) million Solar Home Systems installed in the locality not connected with national grid, another two million SMS are expected by 2015 (tax exemption on solar pane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1.5 million Improved Cook Stoves distributed, another one million ICS by 2016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Implementing a large energy efficient lighting program with ten million CFLs and LE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Installation of 2000 Solar Irrigation Pumps by the next three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Installation of Wind Mills in selected areas (wind mapping is complet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Replacing Single Cycle Power Plants with energy efficient Combined Cycle technolog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541080"/>
            <a:ext cx="8229600" cy="59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Arial"/>
              </a:rPr>
              <a:t>DNA Approved projects</a:t>
            </a:r>
            <a:endParaRPr b="0" lang="en-US" sz="4100" spc="-1" strike="noStrike">
              <a:solidFill>
                <a:srgbClr val="000000"/>
              </a:solidFill>
              <a:latin typeface="Arial"/>
            </a:endParaRPr>
          </a:p>
        </p:txBody>
      </p:sp>
      <p:graphicFrame>
        <p:nvGraphicFramePr>
          <p:cNvPr id="117" name=""/>
          <p:cNvGraphicFramePr/>
          <p:nvPr/>
        </p:nvGraphicFramePr>
        <p:xfrm>
          <a:off x="304920" y="1371600"/>
          <a:ext cx="8557920" cy="4952880"/>
        </p:xfrm>
        <a:graphic>
          <a:graphicData uri="http://schemas.openxmlformats.org/drawingml/2006/table">
            <a:tbl>
              <a:tblPr/>
              <a:tblGrid>
                <a:gridCol w="533160"/>
                <a:gridCol w="2386080"/>
                <a:gridCol w="2590920"/>
                <a:gridCol w="3047760"/>
              </a:tblGrid>
              <a:tr h="874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ea typeface="Mangal"/>
                        </a:rPr>
                        <a:t>S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me of Projec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levant Informatio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tatu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816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andfill gas Extraction and Utilization at Matuail Dumpsite, Dhaka</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160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xpected to generate 3-5 MW Electricity from the extracted methane</a:t>
                      </a:r>
                      <a:endParaRPr b="0" lang="en-US" sz="2400" spc="-1" strike="noStrike">
                        <a:solidFill>
                          <a:srgbClr val="000000"/>
                        </a:solidFill>
                        <a:latin typeface="Arial"/>
                      </a:endParaRPr>
                    </a:p>
                    <a:p>
                      <a:pPr>
                        <a:lnSpc>
                          <a:spcPct val="100000"/>
                        </a:lnSpc>
                        <a:tabLst>
                          <a:tab algn="l" pos="0"/>
                          <a:tab algn="l" pos="160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Got registration from CDM Executive Boar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CC is yet to approve the project proponent access to Matuail Dump sit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261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mposting Project at Matuail Dumpsite, Dhaka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160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kitchen market waste is composted</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Mincho"/>
                        </a:rPr>
                        <a:t>Registered at the CDM EB; Sold first batch of 7131 CERs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18" name="Rectangle 25"/>
          <p:cNvSpPr/>
          <p:nvPr/>
        </p:nvSpPr>
        <p:spPr>
          <a:xfrm>
            <a:off x="-174600" y="5641200"/>
            <a:ext cx="180720" cy="520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Arial"/>
              </a:rPr>
              <a:t>Cont..</a:t>
            </a:r>
            <a:endParaRPr b="0" lang="en-US" sz="4100" spc="-1" strike="noStrike">
              <a:solidFill>
                <a:srgbClr val="000000"/>
              </a:solidFill>
              <a:latin typeface="Arial"/>
            </a:endParaRPr>
          </a:p>
        </p:txBody>
      </p:sp>
      <p:graphicFrame>
        <p:nvGraphicFramePr>
          <p:cNvPr id="120" name=""/>
          <p:cNvGraphicFramePr/>
          <p:nvPr/>
        </p:nvGraphicFramePr>
        <p:xfrm>
          <a:off x="457200" y="1143000"/>
          <a:ext cx="8424720" cy="5029200"/>
        </p:xfrm>
        <a:graphic>
          <a:graphicData uri="http://schemas.openxmlformats.org/drawingml/2006/table">
            <a:tbl>
              <a:tblPr/>
              <a:tblGrid>
                <a:gridCol w="500040"/>
                <a:gridCol w="2166840"/>
                <a:gridCol w="4081680"/>
                <a:gridCol w="1676160"/>
              </a:tblGrid>
              <a:tr h="825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ea typeface="Times New Roman"/>
                        </a:rPr>
                        <a:t>Name of Projec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ea typeface="Times New Roman"/>
                        </a:rPr>
                        <a:t>Relevant Informatio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ea typeface="Times New Roman"/>
                        </a:rPr>
                        <a:t>Statu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3648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ea typeface="Mangal"/>
                        </a:rPr>
                        <a:t>3</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ea typeface="Times New Roman"/>
                        </a:rPr>
                        <a:t>Solar Home System (SHS) of Grameen Shakti</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ea typeface="Times New Roman"/>
                        </a:rPr>
                        <a:t>(WB supported)</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ea typeface="Times New Roman"/>
                        </a:rPr>
                        <a:t>805,892 SHS will be distributed. 566,899 tons of CER will be generated during 7 year crediting period</a:t>
                      </a:r>
                      <a:r>
                        <a:rPr b="0" lang="en-US" sz="2400" spc="-1" strike="noStrike">
                          <a:solidFill>
                            <a:srgbClr val="000000"/>
                          </a:solidFill>
                          <a:latin typeface="Garamond"/>
                          <a:ea typeface="Mangal"/>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ea typeface="Mangal"/>
                        </a:rPr>
                        <a:t>Recently registered at CDM EB</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2885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ea typeface="Mangal"/>
                        </a:rPr>
                        <a:t>4</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ea typeface="Times New Roman"/>
                        </a:rPr>
                        <a:t>Solar Home System by IDCOL</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ea typeface="Times New Roman"/>
                        </a:rPr>
                        <a:t>(WB supported)</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ea typeface="Times New Roman"/>
                        </a:rPr>
                        <a:t>226,700 units Solar Home Systems will be distributed 243,976 tons of CER will be generated over 7 year crediting period.</a:t>
                      </a:r>
                      <a:r>
                        <a:rPr b="0" lang="en-US" sz="2400" spc="-1" strike="noStrike">
                          <a:solidFill>
                            <a:srgbClr val="000000"/>
                          </a:solidFill>
                          <a:latin typeface="Garamond"/>
                          <a:ea typeface="Mangal"/>
                        </a:rPr>
                        <a:t>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ea typeface="Mangal"/>
                        </a:rPr>
                        <a:t>Recently registered at CDM EB</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80880" y="30456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Arial"/>
              </a:rPr>
              <a:t>Cont..</a:t>
            </a:r>
            <a:endParaRPr b="0" lang="en-US" sz="4100" spc="-1" strike="noStrike">
              <a:solidFill>
                <a:srgbClr val="000000"/>
              </a:solidFill>
              <a:latin typeface="Arial"/>
            </a:endParaRPr>
          </a:p>
        </p:txBody>
      </p:sp>
      <p:graphicFrame>
        <p:nvGraphicFramePr>
          <p:cNvPr id="122" name=""/>
          <p:cNvGraphicFramePr/>
          <p:nvPr/>
        </p:nvGraphicFramePr>
        <p:xfrm>
          <a:off x="380880" y="1143000"/>
          <a:ext cx="8534520" cy="5346720"/>
        </p:xfrm>
        <a:graphic>
          <a:graphicData uri="http://schemas.openxmlformats.org/drawingml/2006/table">
            <a:tbl>
              <a:tblPr/>
              <a:tblGrid>
                <a:gridCol w="662040"/>
                <a:gridCol w="2691000"/>
                <a:gridCol w="3200400"/>
                <a:gridCol w="1981080"/>
              </a:tblGrid>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ea typeface="Mangal"/>
                        </a:rPr>
                        <a:t>Project Activity</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ea typeface="Mangal"/>
                        </a:rPr>
                        <a:t>Relevant Info</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ea typeface="Mangal"/>
                        </a:rPr>
                        <a:t>Statu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85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ea typeface="Mangal"/>
                        </a:rPr>
                        <a:t>5.</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aramond"/>
                          <a:ea typeface="Times New Roman"/>
                        </a:rPr>
                        <a:t>Improving Kiln Efficiency in the Brick Making industry in Bangladesh; IIDFC</a:t>
                      </a:r>
                      <a:r>
                        <a:rPr b="0" lang="en-US" sz="2400" spc="-1" strike="noStrike">
                          <a:solidFill>
                            <a:srgbClr val="000000"/>
                          </a:solidFill>
                          <a:latin typeface="Garamond"/>
                          <a:ea typeface="Mangal"/>
                        </a:rPr>
                        <a:t>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aramond"/>
                          <a:ea typeface="Times New Roman"/>
                        </a:rPr>
                        <a:t>Programmatic CDM; 18 Hybrid Hoffman Kilns will be brought under the CDM project. 246,895 tons of CO2 e will be reduced over 9 year crediting period.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ea typeface="Mangal"/>
                        </a:rPr>
                        <a:t>Registered at CDM EB</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6542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ea typeface="Mangal"/>
                        </a:rPr>
                        <a:t>6.</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ea typeface="Mangal"/>
                        </a:rPr>
                        <a:t>Certified Emission Reduction (CER) of Improved Cook Stoves Programme in Bangladesh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ea typeface="Mangal"/>
                        </a:rPr>
                        <a:t>One million conventional stoves will be replaced with improved cook-stove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ea typeface="Mangal"/>
                        </a:rPr>
                        <a:t>Registered by CDM EB</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ea typeface="Mangal"/>
                        </a:rPr>
                        <a:t>0.9 million ICS distributed so far.</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Arial"/>
              </a:rPr>
              <a:t>Cont.</a:t>
            </a:r>
            <a:endParaRPr b="0" lang="en-US" sz="4100" spc="-1" strike="noStrike">
              <a:solidFill>
                <a:srgbClr val="000000"/>
              </a:solidFill>
              <a:latin typeface="Arial"/>
            </a:endParaRPr>
          </a:p>
        </p:txBody>
      </p:sp>
      <p:graphicFrame>
        <p:nvGraphicFramePr>
          <p:cNvPr id="124" name=""/>
          <p:cNvGraphicFramePr/>
          <p:nvPr/>
        </p:nvGraphicFramePr>
        <p:xfrm>
          <a:off x="380880" y="1143000"/>
          <a:ext cx="8534520" cy="5410080"/>
        </p:xfrm>
        <a:graphic>
          <a:graphicData uri="http://schemas.openxmlformats.org/drawingml/2006/table">
            <a:tbl>
              <a:tblPr/>
              <a:tblGrid>
                <a:gridCol w="515880"/>
                <a:gridCol w="2436840"/>
                <a:gridCol w="3695760"/>
                <a:gridCol w="1886040"/>
              </a:tblGrid>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ea typeface="Mangal"/>
                        </a:rPr>
                        <a:t>Project Activity</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ea typeface="Mangal"/>
                        </a:rPr>
                        <a:t>Relevant Info</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ea typeface="Mangal"/>
                        </a:rPr>
                        <a:t>Statu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2885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ea typeface="Mangal"/>
                        </a:rPr>
                        <a:t>7.</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aramond"/>
                          <a:ea typeface="Times New Roman"/>
                        </a:rPr>
                        <a:t>Efficient Lighting Initiative of Bangladesh (ELIB) (WB supported)</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aramond"/>
                          <a:ea typeface="Times New Roman"/>
                        </a:rPr>
                        <a:t>10.5 million CFL have been distributed</a:t>
                      </a:r>
                      <a:r>
                        <a:rPr b="0" lang="en-US" sz="2400" spc="-1" strike="noStrike">
                          <a:solidFill>
                            <a:srgbClr val="000000"/>
                          </a:solidFill>
                          <a:latin typeface="Garamond"/>
                          <a:ea typeface="Mangal"/>
                        </a:rPr>
                        <a:t> by REB, DESA, DESCO &amp; PDB.</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ea typeface="Mangal"/>
                        </a:rPr>
                        <a:t>Registered at CDM EB</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26542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ea typeface="Mangal"/>
                        </a:rPr>
                        <a:t>8.</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ea typeface="Mangal"/>
                        </a:rPr>
                        <a:t>Mitigation of GHG Emission through Co-Management of Chunati wildlife Sanctuary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ea typeface="Mangal"/>
                        </a:rPr>
                        <a:t>In the next 42 years (by 2008-2050) years 7,58,450 tons of CER will be generated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ea typeface="Mangal"/>
                        </a:rPr>
                        <a:t>Host Country Approval given</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680"/>
            <a:ext cx="8229600" cy="858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Arial"/>
              </a:rPr>
              <a:t>Cont..</a:t>
            </a:r>
            <a:endParaRPr b="0" lang="en-US" sz="4100" spc="-1" strike="noStrike">
              <a:solidFill>
                <a:srgbClr val="000000"/>
              </a:solidFill>
              <a:latin typeface="Arial"/>
            </a:endParaRPr>
          </a:p>
        </p:txBody>
      </p:sp>
      <p:graphicFrame>
        <p:nvGraphicFramePr>
          <p:cNvPr id="126" name=""/>
          <p:cNvGraphicFramePr/>
          <p:nvPr/>
        </p:nvGraphicFramePr>
        <p:xfrm>
          <a:off x="304920" y="1219320"/>
          <a:ext cx="8534160" cy="4952880"/>
        </p:xfrm>
        <a:graphic>
          <a:graphicData uri="http://schemas.openxmlformats.org/drawingml/2006/table">
            <a:tbl>
              <a:tblPr/>
              <a:tblGrid>
                <a:gridCol w="662040"/>
                <a:gridCol w="3147840"/>
                <a:gridCol w="2743200"/>
                <a:gridCol w="1981080"/>
              </a:tblGrid>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ea typeface="Mangal"/>
                        </a:rPr>
                        <a:t>Project Activity</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ea typeface="Mangal"/>
                        </a:rPr>
                        <a:t>Relevant Info</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ea typeface="Mangal"/>
                        </a:rPr>
                        <a:t>Statu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2885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ea typeface="Mangal"/>
                        </a:rPr>
                        <a:t>9.</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ea typeface="Mangal"/>
                        </a:rPr>
                        <a:t>Distribution of Solar Lantern under Australia Bangladesh Solar initiative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ea typeface="Mangal"/>
                        </a:rPr>
                        <a:t>13 million Solar Lantern will be distributed throughout off-grid areas on Bangladesh</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ea typeface="Mangal"/>
                        </a:rPr>
                        <a:t>Conditional Approval given by DNA</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2885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ea typeface="Mangal"/>
                        </a:rPr>
                        <a:t>10.</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ea typeface="Mangal"/>
                        </a:rPr>
                        <a:t>Akij Particle Biomass Thermal Energy Projec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ea typeface="Mangal"/>
                        </a:rPr>
                        <a:t>Replace usage of fossil fuel with residual biomass to provide thermal energy generation plan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ea typeface="Mangal"/>
                        </a:rPr>
                        <a:t>Approved by National CDM Committee</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680"/>
            <a:ext cx="8229600" cy="858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Arial"/>
              </a:rPr>
              <a:t>Cont..</a:t>
            </a:r>
            <a:endParaRPr b="0" lang="en-US" sz="4100" spc="-1" strike="noStrike">
              <a:solidFill>
                <a:srgbClr val="000000"/>
              </a:solidFill>
              <a:latin typeface="Arial"/>
            </a:endParaRPr>
          </a:p>
        </p:txBody>
      </p:sp>
      <p:graphicFrame>
        <p:nvGraphicFramePr>
          <p:cNvPr id="128" name=""/>
          <p:cNvGraphicFramePr/>
          <p:nvPr/>
        </p:nvGraphicFramePr>
        <p:xfrm>
          <a:off x="380880" y="1295280"/>
          <a:ext cx="8534520" cy="5197680"/>
        </p:xfrm>
        <a:graphic>
          <a:graphicData uri="http://schemas.openxmlformats.org/drawingml/2006/table">
            <a:tbl>
              <a:tblPr/>
              <a:tblGrid>
                <a:gridCol w="662040"/>
                <a:gridCol w="2766960"/>
                <a:gridCol w="3124440"/>
                <a:gridCol w="1981080"/>
              </a:tblGrid>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ea typeface="Mangal"/>
                        </a:rPr>
                        <a:t>Project Activity</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ea typeface="Mangal"/>
                        </a:rPr>
                        <a:t>Relevant Info</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ea typeface="Mangal"/>
                        </a:rPr>
                        <a:t>Statu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0200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ea typeface="Mangal"/>
                        </a:rPr>
                        <a:t>11.</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ea typeface="Mangal"/>
                        </a:rPr>
                        <a:t>Bundle Waste Heat Recovery CDM projects in Bangladesh</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ea typeface="Mangal"/>
                        </a:rPr>
                        <a:t>Considerable amount of heat will be collected for the production process from Waste Heat Recovery Boiler; 598,030 CER will be generated</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ea typeface="Mangal"/>
                        </a:rPr>
                        <a:t>Approved by National CDM Committee</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9227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ea typeface="Mangal"/>
                        </a:rPr>
                        <a:t>12.</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ea typeface="Mangal"/>
                        </a:rPr>
                        <a:t>Energy Efficiency in Solid and Hollow Brick Making in Bangladesh</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ea typeface="Mangal"/>
                        </a:rPr>
                        <a:t>15 Hybrid Hoffman Kiln will be established; 457,327 CER will be generated</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ea typeface="Mangal"/>
                        </a:rPr>
                        <a:t>Approved by National CDM Committee</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rPr>
              <a:t>Policies and legislations around mitigation</a:t>
            </a:r>
            <a:endParaRPr b="0" lang="en-US" sz="3200" spc="-1" strike="noStrike">
              <a:solidFill>
                <a:srgbClr val="000000"/>
              </a:solidFill>
              <a:latin typeface="Arial"/>
            </a:endParaRPr>
          </a:p>
        </p:txBody>
      </p:sp>
      <p:sp>
        <p:nvSpPr>
          <p:cNvPr id="92" name=""/>
          <p:cNvSpPr txBox="1"/>
          <p:nvPr/>
        </p:nvSpPr>
        <p:spPr>
          <a:xfrm>
            <a:off x="380520" y="1447560"/>
            <a:ext cx="8153640" cy="4800600"/>
          </a:xfrm>
          <a:prstGeom prst="rect">
            <a:avLst/>
          </a:prstGeom>
          <a:noFill/>
          <a:ln w="0">
            <a:noFill/>
          </a:ln>
        </p:spPr>
        <p:txBody>
          <a:bodyPr anchor="t">
            <a:normAutofit/>
          </a:bodyPr>
          <a:p>
            <a:pPr marL="343080" indent="-343080">
              <a:spcBef>
                <a:spcPts val="624"/>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00000"/>
                </a:solidFill>
                <a:latin typeface="Arial"/>
              </a:rPr>
              <a:t>Bangladesh Renewable Energy Policy 2008 and Draft Update</a:t>
            </a:r>
            <a:endParaRPr b="0" lang="en-US" sz="2500" spc="-1" strike="noStrike">
              <a:solidFill>
                <a:srgbClr val="000000"/>
              </a:solidFill>
              <a:latin typeface="Arial"/>
            </a:endParaRPr>
          </a:p>
          <a:p>
            <a:pPr marL="343080" indent="-343080">
              <a:spcBef>
                <a:spcPts val="624"/>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00000"/>
                </a:solidFill>
                <a:latin typeface="Arial"/>
              </a:rPr>
              <a:t>Bangladesh Climate Change Strategy and Action Plan 2009</a:t>
            </a:r>
            <a:endParaRPr b="0" lang="en-US" sz="2500" spc="-1" strike="noStrike">
              <a:solidFill>
                <a:srgbClr val="000000"/>
              </a:solidFill>
              <a:latin typeface="Arial"/>
            </a:endParaRPr>
          </a:p>
          <a:p>
            <a:pPr marL="343080" indent="-343080">
              <a:spcBef>
                <a:spcPts val="624"/>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00000"/>
                </a:solidFill>
                <a:latin typeface="Arial"/>
              </a:rPr>
              <a:t>Bangladesh Energy Regulatory Commission Act 2003</a:t>
            </a:r>
            <a:endParaRPr b="0" lang="en-US" sz="2500" spc="-1" strike="noStrike">
              <a:solidFill>
                <a:srgbClr val="000000"/>
              </a:solidFill>
              <a:latin typeface="Arial"/>
            </a:endParaRPr>
          </a:p>
          <a:p>
            <a:pPr marL="343080" indent="-343080">
              <a:spcBef>
                <a:spcPts val="624"/>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00000"/>
                </a:solidFill>
                <a:latin typeface="Arial"/>
              </a:rPr>
              <a:t>Bangladesh Sustainable and Renewable Energy Development Authority Act 2012</a:t>
            </a:r>
            <a:endParaRPr b="0" lang="en-US" sz="2500" spc="-1" strike="noStrike">
              <a:solidFill>
                <a:srgbClr val="000000"/>
              </a:solidFill>
              <a:latin typeface="Arial"/>
            </a:endParaRPr>
          </a:p>
          <a:p>
            <a:pPr marL="343080" indent="-343080">
              <a:spcBef>
                <a:spcPts val="624"/>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00000"/>
                </a:solidFill>
                <a:latin typeface="Arial"/>
              </a:rPr>
              <a:t>Energy Efficiency and Conservation Master Plan </a:t>
            </a:r>
            <a:endParaRPr b="0" lang="en-US" sz="2500" spc="-1" strike="noStrike">
              <a:solidFill>
                <a:srgbClr val="000000"/>
              </a:solidFill>
              <a:latin typeface="Arial"/>
            </a:endParaRPr>
          </a:p>
          <a:p>
            <a:pPr marL="343080" indent="-343080">
              <a:spcBef>
                <a:spcPts val="624"/>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00000"/>
                </a:solidFill>
                <a:latin typeface="Arial"/>
              </a:rPr>
              <a:t>National Roadmap for Improved Cook Stoves</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680"/>
            <a:ext cx="8229600" cy="85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Arial"/>
              </a:rPr>
              <a:t>Cont..</a:t>
            </a:r>
            <a:endParaRPr b="0" lang="en-US" sz="4100" spc="-1" strike="noStrike">
              <a:solidFill>
                <a:srgbClr val="000000"/>
              </a:solidFill>
              <a:latin typeface="Arial"/>
            </a:endParaRPr>
          </a:p>
        </p:txBody>
      </p:sp>
      <p:graphicFrame>
        <p:nvGraphicFramePr>
          <p:cNvPr id="130" name=""/>
          <p:cNvGraphicFramePr/>
          <p:nvPr/>
        </p:nvGraphicFramePr>
        <p:xfrm>
          <a:off x="380880" y="1371600"/>
          <a:ext cx="8534520" cy="4816440"/>
        </p:xfrm>
        <a:graphic>
          <a:graphicData uri="http://schemas.openxmlformats.org/drawingml/2006/table">
            <a:tbl>
              <a:tblPr/>
              <a:tblGrid>
                <a:gridCol w="662040"/>
                <a:gridCol w="2766960"/>
                <a:gridCol w="3124440"/>
                <a:gridCol w="1981080"/>
              </a:tblGrid>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ea typeface="Mangal"/>
                        </a:rPr>
                        <a:t>Project Activity</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ea typeface="Mangal"/>
                        </a:rPr>
                        <a:t>Relevant Info</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ea typeface="Mangal"/>
                        </a:rPr>
                        <a:t>Statu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2885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ea typeface="Mangal"/>
                        </a:rPr>
                        <a:t>13.</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ea typeface="Mangal"/>
                        </a:rPr>
                        <a:t>Energy Efficiency Programme in Rural Bangladesh</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ea typeface="Mangal"/>
                        </a:rPr>
                        <a:t>100,000 water purifier will be distributed under the project; 577,982 CERs will be generated</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ea typeface="Mangal"/>
                        </a:rPr>
                        <a:t>Approved by National CDM Committee</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6542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ea typeface="Mangal"/>
                        </a:rPr>
                        <a:t>14.</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ea typeface="Mangal"/>
                        </a:rPr>
                        <a:t>Programme for Promotion of Access to Domestic Biomass in Rural Bangladesh</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ea typeface="Mangal"/>
                        </a:rPr>
                        <a:t>100,000 biogas plants will be established under the project; initially 570 plants will generate 15,233 CER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ea typeface="Mangal"/>
                        </a:rPr>
                        <a:t>Approved by National CDM Committee</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WordArt 5"/>
          <p:cNvSpPr txBox="1"/>
          <p:nvPr/>
        </p:nvSpPr>
        <p:spPr>
          <a:xfrm>
            <a:off x="1828800" y="2286000"/>
            <a:ext cx="518148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Thank you</a:t>
            </a:r>
            <a:endParaRPr b="1" lang="en-US" sz="72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304920" y="228240"/>
            <a:ext cx="807696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Arial"/>
              </a:rPr>
              <a:t>Bangladesh Climate Change Strategy and Action Plan (BCCSAP 2009)</a:t>
            </a:r>
            <a:endParaRPr b="0" lang="en-US" sz="2800" spc="-1" strike="noStrike">
              <a:solidFill>
                <a:srgbClr val="000000"/>
              </a:solidFill>
              <a:latin typeface="Arial"/>
            </a:endParaRPr>
          </a:p>
        </p:txBody>
      </p:sp>
      <p:sp>
        <p:nvSpPr>
          <p:cNvPr id="94" name=""/>
          <p:cNvSpPr txBox="1"/>
          <p:nvPr/>
        </p:nvSpPr>
        <p:spPr>
          <a:xfrm>
            <a:off x="380520" y="990360"/>
            <a:ext cx="8534520" cy="4724280"/>
          </a:xfrm>
          <a:prstGeom prst="rect">
            <a:avLst/>
          </a:prstGeom>
          <a:noFill/>
          <a:ln w="0">
            <a:noFill/>
          </a:ln>
        </p:spPr>
        <p:txBody>
          <a:bodyPr anchor="t">
            <a:normAutofit/>
          </a:bodyPr>
          <a:p>
            <a:pPr lvl="1" marL="272880" indent="-272880" algn="just">
              <a:lnSpc>
                <a:spcPct val="110000"/>
              </a:lnSpc>
              <a:spcAft>
                <a:spcPts val="6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a:ea typeface="Arial"/>
              </a:rPr>
              <a:t>SIX THEMATIC AREAS</a:t>
            </a:r>
            <a:endParaRPr b="0" lang="en-US" sz="2400" spc="-1" strike="noStrike">
              <a:solidFill>
                <a:srgbClr val="000000"/>
              </a:solidFill>
              <a:latin typeface="Arial"/>
            </a:endParaRPr>
          </a:p>
          <a:p>
            <a:pPr lvl="1" marL="272880" indent="-272880" algn="just">
              <a:lnSpc>
                <a:spcPct val="110000"/>
              </a:lnSpc>
              <a:spcAft>
                <a:spcPts val="6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1. </a:t>
            </a:r>
            <a:r>
              <a:rPr b="0" lang="en-US" sz="2400" spc="-1" strike="noStrike">
                <a:solidFill>
                  <a:srgbClr val="000000"/>
                </a:solidFill>
                <a:latin typeface="Arial"/>
                <a:ea typeface="Arial"/>
              </a:rPr>
              <a:t>Food security, social protection and </a:t>
            </a:r>
            <a:endParaRPr b="0" lang="en-US" sz="2400" spc="-1" strike="noStrike">
              <a:solidFill>
                <a:srgbClr val="000000"/>
              </a:solidFill>
              <a:latin typeface="Arial"/>
            </a:endParaRPr>
          </a:p>
          <a:p>
            <a:pPr lvl="1" marL="272880" indent="-272880" algn="just">
              <a:lnSpc>
                <a:spcPct val="110000"/>
              </a:lnSpc>
              <a:spcAft>
                <a:spcPts val="6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health</a:t>
            </a:r>
            <a:endParaRPr b="0" lang="en-US" sz="2400" spc="-1" strike="noStrike">
              <a:solidFill>
                <a:srgbClr val="000000"/>
              </a:solidFill>
              <a:latin typeface="Arial"/>
            </a:endParaRPr>
          </a:p>
          <a:p>
            <a:pPr lvl="1" marL="272880" indent="-272880" algn="just">
              <a:lnSpc>
                <a:spcPct val="110000"/>
              </a:lnSpc>
              <a:spcAft>
                <a:spcPts val="6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 Comprehensive disaster management</a:t>
            </a:r>
            <a:endParaRPr b="0" lang="en-US" sz="2400" spc="-1" strike="noStrike">
              <a:solidFill>
                <a:srgbClr val="000000"/>
              </a:solidFill>
              <a:latin typeface="Arial"/>
            </a:endParaRPr>
          </a:p>
          <a:p>
            <a:pPr lvl="1" marL="272880" indent="-272880" algn="just">
              <a:lnSpc>
                <a:spcPct val="110000"/>
              </a:lnSpc>
              <a:spcAft>
                <a:spcPts val="6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3. Infrastructure</a:t>
            </a:r>
            <a:endParaRPr b="0" lang="en-US" sz="2400" spc="-1" strike="noStrike">
              <a:solidFill>
                <a:srgbClr val="000000"/>
              </a:solidFill>
              <a:latin typeface="Arial"/>
            </a:endParaRPr>
          </a:p>
          <a:p>
            <a:pPr lvl="1" marL="272880" indent="-272880" algn="just">
              <a:lnSpc>
                <a:spcPct val="110000"/>
              </a:lnSpc>
              <a:spcAft>
                <a:spcPts val="6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4. Research &amp; knowledge management</a:t>
            </a:r>
            <a:endParaRPr b="0" lang="en-US" sz="2400" spc="-1" strike="noStrike">
              <a:solidFill>
                <a:srgbClr val="000000"/>
              </a:solidFill>
              <a:latin typeface="Arial"/>
            </a:endParaRPr>
          </a:p>
          <a:p>
            <a:pPr lvl="1" marL="272880" indent="-272880" algn="just">
              <a:lnSpc>
                <a:spcPct val="110000"/>
              </a:lnSpc>
              <a:spcAft>
                <a:spcPts val="6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5. Mitigation &amp; low carbon development</a:t>
            </a:r>
            <a:endParaRPr b="0" lang="en-US" sz="2400" spc="-1" strike="noStrike">
              <a:solidFill>
                <a:srgbClr val="000000"/>
              </a:solidFill>
              <a:latin typeface="Arial"/>
            </a:endParaRPr>
          </a:p>
          <a:p>
            <a:pPr lvl="1" marL="272880" indent="-272880" algn="just">
              <a:lnSpc>
                <a:spcPct val="110000"/>
              </a:lnSpc>
              <a:spcAft>
                <a:spcPts val="6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6. Capacity building &amp; institutional</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strengthening</a:t>
            </a:r>
            <a:endParaRPr b="0" lang="en-US" sz="2400" spc="-1" strike="noStrike">
              <a:solidFill>
                <a:srgbClr val="000000"/>
              </a:solidFill>
              <a:latin typeface="Arial"/>
            </a:endParaRPr>
          </a:p>
          <a:p>
            <a:pPr lvl="1" marL="272880" indent="-272880">
              <a:lnSpc>
                <a:spcPct val="110000"/>
              </a:lnSpc>
              <a:spcAft>
                <a:spcPts val="601"/>
              </a:spcAft>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44 thematic programmes and 133 major activities </a:t>
            </a:r>
            <a:endParaRPr b="0" lang="en-US" sz="2400" spc="-1" strike="noStrike">
              <a:solidFill>
                <a:srgbClr val="000000"/>
              </a:solidFill>
              <a:latin typeface="Arial"/>
            </a:endParaRPr>
          </a:p>
          <a:p>
            <a:pPr marL="272880" indent="-272880">
              <a:spcBef>
                <a:spcPts val="601"/>
              </a:spcBef>
              <a:buClr>
                <a:srgbClr val="d3f8ee"/>
              </a:buClr>
              <a:buFont typeface="Wingdings 2"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5" name="Picture 4" descr=""/>
          <p:cNvPicPr/>
          <p:nvPr/>
        </p:nvPicPr>
        <p:blipFill>
          <a:blip r:embed="rId1"/>
          <a:stretch/>
        </p:blipFill>
        <p:spPr>
          <a:xfrm>
            <a:off x="6095880" y="1219320"/>
            <a:ext cx="2344680" cy="3276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228240" y="274680"/>
            <a:ext cx="8458200" cy="3348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7030a0"/>
                </a:solidFill>
                <a:latin typeface="Arial"/>
                <a:ea typeface="Arial"/>
              </a:rPr>
              <a:t>Mitigation &amp; Low Carbon Development</a:t>
            </a:r>
            <a:br>
              <a:rPr sz="2800"/>
            </a:br>
            <a:endParaRPr b="0" lang="en-US" sz="3200" spc="-1" strike="noStrike">
              <a:solidFill>
                <a:srgbClr val="000000"/>
              </a:solidFill>
              <a:latin typeface="Arial"/>
            </a:endParaRPr>
          </a:p>
        </p:txBody>
      </p:sp>
      <p:sp>
        <p:nvSpPr>
          <p:cNvPr id="97" name=""/>
          <p:cNvSpPr txBox="1"/>
          <p:nvPr/>
        </p:nvSpPr>
        <p:spPr>
          <a:xfrm>
            <a:off x="456840" y="762120"/>
            <a:ext cx="8077320" cy="5790960"/>
          </a:xfrm>
          <a:prstGeom prst="rect">
            <a:avLst/>
          </a:prstGeom>
          <a:noFill/>
          <a:ln w="0">
            <a:noFill/>
          </a:ln>
        </p:spPr>
        <p:txBody>
          <a:bodyPr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d Energy Efficiency in Production and Consumption of Energ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newable Energy Development</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wer Emissions in Agricultural Field</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of Urban Waste</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forestation and Reforest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pid Expansion of Energy Saving Devices, e.g. CFL, LED</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ergy and Water Efficiency in Built Environment</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ment of Low Carbon Coal Mines and Coal Fired Power Plant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s Exploration and Reservoir Management</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ing in Energy Consumption Pattern in Transport Sector and Option for Mitig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304920" y="30456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Arial"/>
              </a:rPr>
              <a:t>Mitigation Potentials in Bangladesh </a:t>
            </a:r>
            <a:br>
              <a:rPr sz="2800"/>
            </a:br>
            <a:r>
              <a:rPr b="1" lang="en-US" sz="2800" spc="-1" strike="noStrike">
                <a:solidFill>
                  <a:srgbClr val="7030a0"/>
                </a:solidFill>
                <a:latin typeface="Arial"/>
              </a:rPr>
              <a:t>(Identified in 2</a:t>
            </a:r>
            <a:r>
              <a:rPr b="1" lang="en-US" sz="2800" spc="-1" strike="noStrike" baseline="30000">
                <a:solidFill>
                  <a:srgbClr val="7030a0"/>
                </a:solidFill>
                <a:latin typeface="Arial"/>
              </a:rPr>
              <a:t>nd</a:t>
            </a:r>
            <a:r>
              <a:rPr b="1" lang="en-US" sz="2800" spc="-1" strike="noStrike">
                <a:solidFill>
                  <a:srgbClr val="7030a0"/>
                </a:solidFill>
                <a:latin typeface="Arial"/>
              </a:rPr>
              <a:t> National Communication of Bangladesh</a:t>
            </a:r>
            <a:r>
              <a:rPr b="0" lang="en-US" sz="2800" spc="-1" strike="noStrike">
                <a:solidFill>
                  <a:srgbClr val="7030a0"/>
                </a:solidFill>
                <a:latin typeface="Arial"/>
              </a:rPr>
              <a:t>)</a:t>
            </a:r>
            <a:endParaRPr b="0" lang="en-US" sz="2800" spc="-1" strike="noStrike">
              <a:solidFill>
                <a:srgbClr val="000000"/>
              </a:solidFill>
              <a:latin typeface="Arial"/>
            </a:endParaRPr>
          </a:p>
        </p:txBody>
      </p:sp>
      <p:sp>
        <p:nvSpPr>
          <p:cNvPr id="99" name=""/>
          <p:cNvSpPr txBox="1"/>
          <p:nvPr/>
        </p:nvSpPr>
        <p:spPr>
          <a:xfrm>
            <a:off x="533160" y="1447560"/>
            <a:ext cx="7924680" cy="4647960"/>
          </a:xfrm>
          <a:prstGeom prst="rect">
            <a:avLst/>
          </a:prstGeom>
          <a:noFill/>
          <a:ln w="0">
            <a:noFill/>
          </a:ln>
        </p:spPr>
        <p:txBody>
          <a:bodyPr anchor="t">
            <a:normAutofit fontScale="94000"/>
          </a:bodyPr>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igations Options:</a:t>
            </a:r>
            <a:endParaRPr b="0" lang="en-US" sz="2800" spc="-1" strike="noStrike">
              <a:solidFill>
                <a:srgbClr val="000000"/>
              </a:solidFill>
              <a:latin typeface="Arial"/>
            </a:endParaRPr>
          </a:p>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Transport Sector </a:t>
            </a:r>
            <a:endParaRPr b="0" lang="en-US" sz="24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al shift from road to railway  </a:t>
            </a:r>
            <a:endParaRPr b="0" lang="en-US" sz="24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al shift from road to waterway  </a:t>
            </a:r>
            <a:endParaRPr b="0" lang="en-US" sz="2400" spc="-1" strike="noStrike">
              <a:solidFill>
                <a:srgbClr val="000000"/>
              </a:solidFill>
              <a:latin typeface="Arial"/>
            </a:endParaRPr>
          </a:p>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Agriculture Sector </a:t>
            </a:r>
            <a:endParaRPr b="0" lang="en-US" sz="24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 PV irrigation pumps </a:t>
            </a:r>
            <a:endParaRPr b="0" lang="en-US" sz="2400" spc="-1" strike="noStrike">
              <a:solidFill>
                <a:srgbClr val="000000"/>
              </a:solidFill>
              <a:latin typeface="Arial"/>
            </a:endParaRPr>
          </a:p>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Residential Sector </a:t>
            </a:r>
            <a:endParaRPr b="0" lang="en-US" sz="24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ering residential gas supply </a:t>
            </a:r>
            <a:endParaRPr b="0" lang="en-US" sz="24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d gas cook stoves </a:t>
            </a:r>
            <a:endParaRPr b="0" lang="en-US" sz="24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 PV lanterns to replace kerosene lamps </a:t>
            </a:r>
            <a:endParaRPr b="0" lang="en-US" sz="2400" spc="-1" strike="noStrike">
              <a:solidFill>
                <a:srgbClr val="000000"/>
              </a:solidFill>
              <a:latin typeface="Arial"/>
            </a:endParaRPr>
          </a:p>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228600" y="27468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Arial"/>
              </a:rPr>
              <a:t>Mitigation of GHG Emissions</a:t>
            </a:r>
            <a:endParaRPr b="0" lang="en-US" sz="3200" spc="-1" strike="noStrike">
              <a:solidFill>
                <a:srgbClr val="000000"/>
              </a:solidFill>
              <a:latin typeface="Arial"/>
            </a:endParaRPr>
          </a:p>
        </p:txBody>
      </p:sp>
      <p:sp>
        <p:nvSpPr>
          <p:cNvPr id="101" name=""/>
          <p:cNvSpPr txBox="1"/>
          <p:nvPr/>
        </p:nvSpPr>
        <p:spPr>
          <a:xfrm>
            <a:off x="457200" y="914040"/>
            <a:ext cx="8229600" cy="48006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Industry Sector (public and private)</a:t>
            </a:r>
            <a:r>
              <a:rPr b="1" i="1" lang="en-US" sz="2400" spc="-1" strike="noStrike" u="sng">
                <a:solidFill>
                  <a:srgbClr val="000000"/>
                </a:solidFill>
                <a:uFillTx/>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Urea fertilizer plant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gar mills (cogeneration plant efficiency improvemen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el re-rolling mills efficiency improvemen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ick making – Higher efficiency kiln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ustrial cogeneration for captive generator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iler efficiency improvement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Commercial Sector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 reflective glass for façades and window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of hollow bricks as partition wall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b050"/>
                </a:solidFill>
                <a:latin typeface="Arial"/>
              </a:rPr>
              <a:t> </a:t>
            </a:r>
            <a:r>
              <a:rPr b="0" lang="en-US" sz="3200" spc="-1" strike="noStrike">
                <a:solidFill>
                  <a:srgbClr val="7030a0"/>
                </a:solidFill>
                <a:latin typeface="Arial"/>
              </a:rPr>
              <a:t>Mitigation of GHG Emission</a:t>
            </a:r>
            <a:endParaRPr b="0" lang="en-US" sz="3200" spc="-1" strike="noStrike">
              <a:solidFill>
                <a:srgbClr val="000000"/>
              </a:solidFill>
              <a:latin typeface="Arial"/>
            </a:endParaRPr>
          </a:p>
        </p:txBody>
      </p:sp>
      <p:sp>
        <p:nvSpPr>
          <p:cNvPr id="103" name=""/>
          <p:cNvSpPr txBox="1"/>
          <p:nvPr/>
        </p:nvSpPr>
        <p:spPr>
          <a:xfrm>
            <a:off x="456840" y="1143000"/>
            <a:ext cx="8077320" cy="495288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Power Sector</a:t>
            </a:r>
            <a:r>
              <a:rPr b="1"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CGT to replace old Steam Turbine (ST) plant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ectricity distribution loss reduction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ercritical boilers for coal fired power plants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Cross Sectoral Option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fficient fan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fficient lighting (T8 replaced by T5 fluorescent tube-lights)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Biomass Options</a:t>
            </a:r>
            <a:r>
              <a:rPr b="1" i="1" lang="en-US" sz="2400" spc="-1" strike="noStrike" u="sng">
                <a:solidFill>
                  <a:srgbClr val="000000"/>
                </a:solidFill>
                <a:uFillTx/>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fficiency improvement of parboiling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ogas plants </a:t>
            </a:r>
            <a:r>
              <a:rPr b="1"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Chart 2" descr=""/>
          <p:cNvPicPr/>
          <p:nvPr/>
        </p:nvPicPr>
        <p:blipFill>
          <a:blip r:embed="rId1"/>
          <a:srcRect l="-1437" t="-3967" r="-536" b="-832"/>
          <a:stretch/>
        </p:blipFill>
        <p:spPr>
          <a:xfrm>
            <a:off x="533520" y="0"/>
            <a:ext cx="7391160" cy="6553080"/>
          </a:xfrm>
          <a:prstGeom prst="rect">
            <a:avLst/>
          </a:prstGeom>
          <a:ln w="0">
            <a:noFill/>
          </a:ln>
        </p:spPr>
      </p:pic>
      <p:sp>
        <p:nvSpPr>
          <p:cNvPr id="105" name="TextBox 4"/>
          <p:cNvSpPr/>
          <p:nvPr/>
        </p:nvSpPr>
        <p:spPr>
          <a:xfrm>
            <a:off x="6781680" y="304920"/>
            <a:ext cx="20574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HG Reduction Potential of Mitigation  Op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4" descr=""/>
          <p:cNvPicPr/>
          <p:nvPr/>
        </p:nvPicPr>
        <p:blipFill>
          <a:blip r:embed="rId1"/>
          <a:stretch/>
        </p:blipFill>
        <p:spPr>
          <a:xfrm>
            <a:off x="685800" y="152280"/>
            <a:ext cx="6705720" cy="6705720"/>
          </a:xfrm>
          <a:prstGeom prst="rect">
            <a:avLst/>
          </a:prstGeom>
          <a:ln w="0">
            <a:noFill/>
          </a:ln>
        </p:spPr>
      </p:pic>
      <p:sp>
        <p:nvSpPr>
          <p:cNvPr id="107" name="TextBox 5"/>
          <p:cNvSpPr/>
          <p:nvPr/>
        </p:nvSpPr>
        <p:spPr>
          <a:xfrm>
            <a:off x="7543800" y="2438280"/>
            <a:ext cx="13716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tal Emission Reduction 7.2 million MT per yea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zia</dc:creator>
  <dc:description/>
  <dc:language>en-US</dc:language>
  <cp:lastModifiedBy>zia</cp:lastModifiedBy>
  <dcterms:modified xsi:type="dcterms:W3CDTF">2015-08-16T06:35:30Z</dcterms:modified>
  <cp:revision>16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